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C57-E768-475A-907E-335B9DE1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E27-C978-4E52-A565-0D643A5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0FD-FB2C-4CF8-B22B-34A09F82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3C0-6EF9-43DA-9D0C-8372782A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0A0-D777-4D0E-9AA2-41005F7D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702-41FF-4893-B647-7CAC9F79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DEF-DC45-4D8F-91ED-55ADCF2F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756-D30C-41E6-87F6-F1B785F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42A9-D842-49A7-BDC8-8EB37D6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41B-AE72-49E4-A34F-BCA61B79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16B-BC13-43EC-BC74-B70900D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FFF-AB48-4CB9-9284-32C9DFC1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1B8-E596-4183-B5ED-ED7B96989E9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Theory and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1690" r="0" b="0"/>
          <a:stretch/>
        </p:blipFill>
        <p:spPr>
          <a:xfrm>
            <a:off x="838080" y="1990800"/>
            <a:ext cx="784872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Multiple Choic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monatomic gas is compressed while its temperature is held constant. What happens to the internal energy of the has during this process, and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It decreases because the gas does work on its surroun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It decreases because the molecules of an ideal gas colli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It does not change because the internal energy of an ideal gas depends only on its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It increases because work is done on the g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It increases because the molecules travel a shorter path between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0400" y="2238480"/>
            <a:ext cx="287640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57200" y="457200"/>
            <a:ext cx="754380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10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A cylinder with a movable frictionless piston contains an ideal gas that is initially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state 1 at 1 105 Pa, 373 K, and 0.25 m3. The gas is taken through a rever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thermodynamic cycle as shown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NewRomanPS-Italic"/>
              </a:rPr>
              <a:t>P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diagram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a) Calculate the temperature of the gas when it is in the following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i. St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ii. St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b) Calculate the net work done on the gas during the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(c) Was heat added to or removed from the gas during the cy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NewRomanPS"/>
              </a:rPr>
              <a:t>____ Added ____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886200" y="4343400"/>
            <a:ext cx="480060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rcRect l="25125" t="27841" r="25125" b="5041"/>
          <a:stretch/>
        </p:blipFill>
        <p:spPr>
          <a:xfrm>
            <a:off x="228600" y="1600200"/>
            <a:ext cx="478152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rcRect l="30153" t="21000" r="25125" b="5041"/>
          <a:stretch/>
        </p:blipFill>
        <p:spPr>
          <a:xfrm>
            <a:off x="4343400" y="16002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Response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 Model for Ide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s consists of molecules of ma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easeless random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the molecules is negligible, in the sense that their diameters are much smaller than the average distance traveled betwee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es do not interact, except that they make perfect elastic collisions when they are in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Ga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th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"zeroth law" states that if two systems are at the same time in thermal equilibrium with a third system, they are in thermal equilibrium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21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r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energy is defined as the energy associated with the random, disordered motion of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15338" r="0" b="0"/>
          <a:stretch/>
        </p:blipFill>
        <p:spPr>
          <a:xfrm>
            <a:off x="1143000" y="1600200"/>
            <a:ext cx="716292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V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yclic heat engine process, the PV diagram will be closed 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ide the loop is a representation of the amou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during a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done only when the volume of the gas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733560" cy="27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gine takes energy from a hot reservoir and uses part of it to do work, but is constrained by the second law of thermodynamics to exhaust part of the energy to a cold reservo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the automobile engine, the hot reservoir is the burning fuel and the cold reservoir is the environment to which the combustion products are exha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no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efficient heat engine cycle is the Carnot cycle, consisting of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es and tw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iaba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rnot cycle can be thought of as the most efficient heat engine cycle allowed by physical 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approach the Carnot efficiency, the processes involved in the heat engine cycle must be reversible and involve no change in entr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4768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9:45:03Z</dcterms:created>
  <dc:creator>luongmo</dc:creator>
  <dc:description/>
  <dc:language>en-US</dc:language>
  <cp:lastModifiedBy>Lisa</cp:lastModifiedBy>
  <dcterms:modified xsi:type="dcterms:W3CDTF">2011-01-21T20:32:41Z</dcterms:modified>
  <cp:revision>34</cp:revision>
  <dc:subject/>
  <dc:title>Slide 1</dc:title>
</cp:coreProperties>
</file>